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3642-95FE-4C6D-8D7C-CFC614B71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E0AE-085F-4F16-8D52-B060B3825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1E53-3058-499A-AD2A-A6A44B8DB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9A41-E7D5-43C8-8CE5-C825FF223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181B-2411-49C4-B76C-E06DAF8BC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625E-CFBF-42BE-A721-C4CDEF6DE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4B0F-32E4-4105-B20C-614FCA45B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0942-4E50-4749-848B-C7E2A9C48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0BD9-4101-4062-9779-9EA725D05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DB0B-A2B5-45DC-AC55-B4477E17F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1B12-1242-4B83-A502-C0B9EF721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B293-3ADF-4595-A94C-435319EF8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776E5-DC0E-43C0-BDEE-91726AB39F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 rot="20803800">
            <a:off x="0" y="0"/>
            <a:ext cx="41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Bodoni MT Black"/>
              </a:rPr>
              <a:t>Quick re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2798280" y="260280"/>
            <a:ext cx="507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odoni MT Black"/>
              </a:rPr>
              <a:t>Match the techniques with the examp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1414800" y="765000"/>
            <a:ext cx="281556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Allit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F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Opin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Rhetorical ques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Emotive 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Stat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Trip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Metaph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Command / imper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Modal 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Personal pronou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900000" y="765000"/>
            <a:ext cx="45072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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8"/>
          <p:cNvSpPr/>
          <p:nvPr/>
        </p:nvSpPr>
        <p:spPr>
          <a:xfrm>
            <a:off x="1332000" y="836640"/>
            <a:ext cx="0" cy="602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9"/>
          <p:cNvSpPr/>
          <p:nvPr/>
        </p:nvSpPr>
        <p:spPr>
          <a:xfrm>
            <a:off x="4356000" y="981000"/>
            <a:ext cx="0" cy="5877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1"/>
          <p:cNvSpPr/>
          <p:nvPr/>
        </p:nvSpPr>
        <p:spPr>
          <a:xfrm>
            <a:off x="4530240" y="765000"/>
            <a:ext cx="410796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A fox is a living cr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90% of anim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The weak and defenceless f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People should be more carefu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So why don’t people stop hunting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cold, tired and hung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I believe hunting is a good th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The bright and blazing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We don’t have to put up with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Think about this ide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An army of hunting do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 rot="20803800">
            <a:off x="0" y="0"/>
            <a:ext cx="41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Bodoni MT Black"/>
              </a:rPr>
              <a:t>Quick re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2798280" y="260280"/>
            <a:ext cx="507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odoni MT Black"/>
              </a:rPr>
              <a:t>Match the techniques with the examp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1414800" y="765000"/>
            <a:ext cx="281556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Allit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F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Opin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Rhetorical ques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Emotive 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Stat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Trip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Metaph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Command / imper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Modal 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Personal pronou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900000" y="765000"/>
            <a:ext cx="45072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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6"/>
          <p:cNvSpPr/>
          <p:nvPr/>
        </p:nvSpPr>
        <p:spPr>
          <a:xfrm>
            <a:off x="1332000" y="836640"/>
            <a:ext cx="0" cy="602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7"/>
          <p:cNvSpPr/>
          <p:nvPr/>
        </p:nvSpPr>
        <p:spPr>
          <a:xfrm>
            <a:off x="4356000" y="981000"/>
            <a:ext cx="0" cy="5877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4530240" y="765000"/>
            <a:ext cx="410796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A fox is a living cr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90% of anim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The weak and defenceless f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People should be more carefu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So why don’t people stop hunting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cold, tired and hung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I believe hunting is a good th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The bright and blazing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We don’t have to put up with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Think about this ide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An army of hunting do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9"/>
          <p:cNvSpPr/>
          <p:nvPr/>
        </p:nvSpPr>
        <p:spPr>
          <a:xfrm>
            <a:off x="3203640" y="981000"/>
            <a:ext cx="1368360" cy="381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"/>
          <p:cNvSpPr/>
          <p:nvPr/>
        </p:nvSpPr>
        <p:spPr>
          <a:xfrm flipV="1">
            <a:off x="2556000" y="907560"/>
            <a:ext cx="201600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1"/>
          <p:cNvSpPr/>
          <p:nvPr/>
        </p:nvSpPr>
        <p:spPr>
          <a:xfrm>
            <a:off x="2627280" y="2060640"/>
            <a:ext cx="2089080" cy="20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2"/>
          <p:cNvSpPr/>
          <p:nvPr/>
        </p:nvSpPr>
        <p:spPr>
          <a:xfrm>
            <a:off x="3851280" y="2637000"/>
            <a:ext cx="7207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3"/>
          <p:cNvSpPr/>
          <p:nvPr/>
        </p:nvSpPr>
        <p:spPr>
          <a:xfrm flipV="1">
            <a:off x="3564000" y="2133720"/>
            <a:ext cx="1008000" cy="107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4"/>
          <p:cNvSpPr/>
          <p:nvPr/>
        </p:nvSpPr>
        <p:spPr>
          <a:xfrm flipV="1">
            <a:off x="2700360" y="1557000"/>
            <a:ext cx="1800360" cy="21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5"/>
          <p:cNvSpPr/>
          <p:nvPr/>
        </p:nvSpPr>
        <p:spPr>
          <a:xfrm flipV="1">
            <a:off x="2411280" y="3644640"/>
            <a:ext cx="216072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6"/>
          <p:cNvSpPr/>
          <p:nvPr/>
        </p:nvSpPr>
        <p:spPr>
          <a:xfrm>
            <a:off x="2627280" y="4797360"/>
            <a:ext cx="2016000" cy="151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7"/>
          <p:cNvSpPr/>
          <p:nvPr/>
        </p:nvSpPr>
        <p:spPr>
          <a:xfrm>
            <a:off x="4067280" y="5445000"/>
            <a:ext cx="50472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8"/>
          <p:cNvSpPr/>
          <p:nvPr/>
        </p:nvSpPr>
        <p:spPr>
          <a:xfrm flipV="1">
            <a:off x="2843280" y="2565000"/>
            <a:ext cx="1657440" cy="331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9"/>
          <p:cNvSpPr/>
          <p:nvPr/>
        </p:nvSpPr>
        <p:spPr>
          <a:xfrm flipV="1">
            <a:off x="3635280" y="5373360"/>
            <a:ext cx="86544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forest-39zi"/>
          <p:cNvPicPr/>
          <p:nvPr/>
        </p:nvPicPr>
        <p:blipFill>
          <a:blip r:embed="rId1"/>
          <a:stretch/>
        </p:blipFill>
        <p:spPr>
          <a:xfrm>
            <a:off x="-396720" y="19080"/>
            <a:ext cx="10548720" cy="68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366120" y="201600"/>
            <a:ext cx="754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Features of speech writing – in A FORES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313920" y="836640"/>
            <a:ext cx="8190720" cy="37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en-GB" sz="3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3400" spc="-1" strike="noStrike">
                <a:solidFill>
                  <a:srgbClr val="000000"/>
                </a:solidFill>
                <a:latin typeface="Tahoma"/>
              </a:rPr>
              <a:t>Allitera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1" lang="en-GB" sz="3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3400" spc="-1" strike="noStrike">
                <a:solidFill>
                  <a:srgbClr val="000000"/>
                </a:solidFill>
                <a:latin typeface="Tahoma"/>
              </a:rPr>
              <a:t>Fact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1" lang="en-GB" sz="3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3400" spc="-1" strike="noStrike">
                <a:solidFill>
                  <a:srgbClr val="000000"/>
                </a:solidFill>
                <a:latin typeface="Tahoma"/>
              </a:rPr>
              <a:t>Opin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1" lang="en-GB" sz="3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3400" spc="-1" strike="noStrike">
                <a:solidFill>
                  <a:srgbClr val="000000"/>
                </a:solidFill>
                <a:latin typeface="Tahoma"/>
              </a:rPr>
              <a:t>Repetition / Rhetorical question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1" lang="en-GB" sz="3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3400" spc="-1" strike="noStrike">
                <a:solidFill>
                  <a:srgbClr val="000000"/>
                </a:solidFill>
                <a:latin typeface="Tahoma"/>
              </a:rPr>
              <a:t>Emotive languag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1" lang="en-GB" sz="3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3400" spc="-1" strike="noStrike">
                <a:solidFill>
                  <a:srgbClr val="000000"/>
                </a:solidFill>
                <a:latin typeface="Tahoma"/>
              </a:rPr>
              <a:t>Statistic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1" lang="en-GB" sz="3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3400" spc="-1" strike="noStrike">
                <a:solidFill>
                  <a:srgbClr val="000000"/>
                </a:solidFill>
                <a:latin typeface="Tahoma"/>
              </a:rPr>
              <a:t>Triples (Three, rule of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447840" y="4889520"/>
            <a:ext cx="7869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Write this list in your books, then underneath write A FOREST in the margin as written above. Next to each letter, write a sentence that uses the relevant techniq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6T20:28:16Z</dcterms:created>
  <dc:creator>Retestrak</dc:creator>
  <dc:description/>
  <dc:language>en-US</dc:language>
  <cp:lastModifiedBy>GRAHAM-PROWSE, Felicity(GRA)</cp:lastModifiedBy>
  <dcterms:modified xsi:type="dcterms:W3CDTF">2012-05-15T12:23:51Z</dcterms:modified>
  <cp:revision>3</cp:revision>
  <dc:subject/>
  <dc:title>Slide 1</dc:title>
</cp:coreProperties>
</file>